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08E-6666-4E1F-8FA9-84835343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2F2-9A04-4937-A6A8-ADD86825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992-C4DC-4019-94DE-D7F7838E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F01-9D99-4C1E-8F8A-88C7C2D7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22B-0E83-41C6-B32F-18D8D21A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F4C-5A3D-470F-A0A7-7CFB2C76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ECE-8965-4E62-9410-7E11A6DC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85C-7FB2-42F6-ABD9-B0643DA7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2B5-703A-4784-AAD5-454751C3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93E-942E-429C-B063-D89B94A1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AC5-013E-4262-B952-585A21D6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B45-42CB-4435-9176-64D48B87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0522-4CA7-4A9B-A4DC-7624DFCCE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3 Duchom svojím veď nás, Kris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uch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vojí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eď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ás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rist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0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nám pevnou opor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sme Slovo tvoje čist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tovali s pokor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a milosť nech nás chrá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zvodom a sklama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ch láska tvojich dla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revádza nás žehna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ocni ruky naše zno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é k tebe spín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nás milosť stále no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víha, hoc aj kles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ieť chabej viery plam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lni krok nesme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 sŕdc úzkosť navždy zaž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sme stáli, zmuži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jednoť, Pane, cirkev svoj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čisť krvou z Golg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v nej pre službu tvoj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o viacej och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by každý, kto ťa po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úžiť verne vždy ti chc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ť tvoja spásonos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zrieť večný dá nám ci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07:12:13Z</dcterms:modified>
  <cp:revision>20</cp:revision>
  <dc:subject/>
  <dc:title>Je veľký náš Pán, on slávy je Kráľ Nech do všetkých strán  spev vrúcnych znie chvál.</dc:title>
</cp:coreProperties>
</file>